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E173-B08F-4CF4-8D16-32B86BD13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DD8F-3D59-4B66-9DD1-137FFDB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0813-9BA4-4318-9FC7-4C4A4802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BBA2-CD1C-4549-B1EE-9E2F66D8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623B-9C55-4E7A-A588-06F27FC8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CEA0-12E5-41DB-9A6A-3993366B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10ED-1D59-46BA-9A00-F1A6405B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BB6E-455E-4A57-8DD2-18DC6CF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4E3B-05E2-49CA-A372-D06713BE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FCA5-4381-485F-A64B-AB03BFA6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1601-ED21-44C6-9DB1-04F2DA8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20D7-F1A2-4BD5-8FF5-5EDF318AC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Prog.  põhikursus loeng 14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90D9BED5-CEF1-495B-A278-06BD22E75078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D666-2692-4FC4-9FD9-995437CA8E1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verview of the lectur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ing: programming an example parser/calculator parse1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web site of the cour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ression tre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6" name="expressionTree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376960" cy="526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ression tree: class def example, constructo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lass ExpNode {  // A node in an expression tr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final int NUMBER = 0, OPERATOR = 1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kind;       // Which type of node is thi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number;  // The value in a node of type NUMB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har op;        // The operator in a node of type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ExpNode left;   // Pointers to subtree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ExpNode right;  //     in a node of type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ExpNode( double val ) { // NUMB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kind = NUMB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number = 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ExpNode( char op, ExpNode left, ExpNode right ) { // OPERATO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kind = OPERAT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this.op = op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// end class Exp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ression tree: evaluation code 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double getValue( ExpNode node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f ( node.kind == NUMBER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/ The value of a NUMBER node is the number it ho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return node.numb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else {  // The kind must be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/ Get the values of the operands and combine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/    using the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leftVal = getValue( node.left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rightVal = getValue( node.right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witch ( node.op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ase '+':  return leftVal + right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ase '-':  return leftVal - right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ase '*':  return leftVal * right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ase '/':  return leftVal / right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efault:   return Double.NaN;  // Bad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// end getValue(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lternative treerep:  abstract and constant no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bstract class 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ExpNode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bstract double value();  // Return the value of this node.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// end class Exp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ConstNode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extends ExpNode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/ a node that holds a numb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number;  // The number in the node.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onstNode( double val )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// Constructor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number = 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value()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just the number that the node ho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return numb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// end class Const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lternative treerep: internal node clas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t-EE" sz="1400" spc="-1" strike="noStrike">
                <a:solidFill>
                  <a:srgbClr val="000000"/>
                </a:solidFill>
                <a:latin typeface="Courier New"/>
              </a:rPr>
              <a:t>BinOpNode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extends ExpNode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// a node that holds an operat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har op;        // The operat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ExpNode left;   // The left operan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ExpNode right;  // The right operan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BinOpNode( char op, ExpNode left, ExpNode right 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tr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this.op = op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this.left = lef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double value()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double leftVal = left.valu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double rightVal = right.valu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switch ( op )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ase '+':  return leftVal + rightVa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ase '-':  return leftVal - rightVa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ase '*':  return leftVal * rightVa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ase '/':  return leftVal / rightVa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default:   return Double.NaN;  // Bad operat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} // end class BinOpN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arsing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laptop/blackboa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1-28T10:22:44Z</dcterms:modified>
  <cp:revision>18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